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9BB-579D-4620-8231-E317686C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73F-3AC6-4D11-9748-7424434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11F-FA84-425B-9586-D6050A5B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6A5-E573-4366-8BC9-7A6200B5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8949-A7B9-4334-B979-58F41575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085C-4A60-4727-A8B1-10EE5A0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21AE-2E54-4EEB-AFAC-85899D4E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C721-6340-46E0-A17E-75790741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BB39-6088-49D1-AAD6-FB974DA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EDA0-0738-4728-A869-EDB8D18D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609-B00F-4305-A370-1383FD70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4D5-1C44-4A40-82DC-A76F198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1F8-5BC5-44B7-A44D-D0F6B5A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36CF-6EAD-40DA-A642-66881AB2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494-FCAC-4A35-ACA6-42721BA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F4B-296B-4358-8698-4FF21A31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908D-6246-43F3-9E66-27DB971B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A1F-3D3A-41F9-A477-E1A244EF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7C2-D169-45AB-942C-8CA035C9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5AC-1E16-485C-934F-B7284277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3C8-9245-4C76-8310-8BA231D3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1AB-D6CB-424C-A676-9126B37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967-7CA2-4094-9350-67DDAB4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47A-9285-47F0-88C7-E7406DC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226-B604-4103-B2FD-C3AB12D89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6FCA-A376-4A54-8AFE-5E3530788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re You Ready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or th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MSA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9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 school bus is shaped approximately like a rectangular prism 10 feet high, 8 feet wide, and 40 feet long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8440" y="2895120"/>
            <a:ext cx="8007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ximate volume of the school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0 cu. ft        C.  1600 cu. f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0 cu. ft         D.  3200 cu. f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10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at is 25% of 70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7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.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686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1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Lunch for 14 people cost a total of $50.68.  If they share the cost equally, how much will each person pay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32763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6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6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7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.7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2)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of  these triangles  is scalene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ngth of the si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m, 5 m, 5 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yd, 6 yd. 8 y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in. 10 in.  6 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 mi. 9 mi, 10 mi  10 m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9440" y="380880"/>
            <a:ext cx="8385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3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What value of z makes this equation true?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Z ÷ 7 = 1.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5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686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4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Bethany bought 5/8 pound of sliced turkey .  She used 2/3 of the meat to make a sandwich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turkey did she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/24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/12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/11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/6 p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5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 triangle has 2 angles that measure 50 degrees and 30 degrees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asure of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8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 degr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6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valuate the expression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  26 – 18 + 3 x 5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81597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17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What is the area of a triangle with a base of 8 inches and a height of 7 inches?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8 square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79440" y="533160"/>
            <a:ext cx="8385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18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Kate had 5/8 of a pie.  If she ate 1/3 of this amount, how much pie did she eat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800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/2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1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ich expression is equal to 38 x 514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+ 500 x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x 500 +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+ 500 x 38 +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8 x 500 + 38 x 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9440" y="53352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9)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If x = 2.25, what is the value of this expression?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 X + 3.65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3048120"/>
            <a:ext cx="8007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0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What is the value of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2 + 5 x 4 x ( 3 – 1) 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1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 container measures 5 feet by 4 feet by 6 feet.  What is the total cost of filling it with insulation at $3 a cubic foot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3276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7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3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059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22)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John had a piece of licorice measuring 5 and 4/5 inches.  He cut off 2 and 1/3 inches for his friend, Jake.  How long was the piece John had left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36160" y="3581280"/>
            <a:ext cx="800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 and 7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 and 8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and 2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and 7/15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3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here are 50 coins in a box, 10 quarters, 20 dimes,15 nickels, and 5 pennies.  If Brad picks one coin, what is the probability it will be a quarter or a dime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2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27800" indent="-12780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9000" y="304920"/>
            <a:ext cx="87660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24)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kia tried a certain skateboard trick 10 times.  She was successful 6 times and unsuccessful 4 times. What is the probability she will be successful the next time she tries the tric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9600" y="3809520"/>
            <a:ext cx="7983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2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diagram shows a triangle with angles that measure 40, 50, and 90 degrees.  Which term best describes the triangl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3505320"/>
            <a:ext cx="914400" cy="9144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6520" y="3319560"/>
            <a:ext cx="41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ute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use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ight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ght Trian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15328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3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his rectanglular field has a width of 80 yards and a perimeter of 600 yards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the fi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6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4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20 y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905120"/>
            <a:ext cx="18288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4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ich list shows the numbers in order from greatest to least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  7/20, 4.3, 4.28, 4  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 7/20, 4.28, 4.3, 4 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28, 4  7/20, 4 ¼, 4.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3, 4.28, 4  7/20, 4  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08160" y="1174680"/>
          <a:ext cx="254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8160" y="1174680"/>
                    <a:ext cx="254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108160" y="1174680"/>
          <a:ext cx="254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8160" y="1174680"/>
                    <a:ext cx="254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)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number is 48 less than 0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8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6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 ship is carrying a load of 49 tractors.  Each tractor weighs 2.96 tons.  Which is the best estimate of the total weight of the tractor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3505320"/>
            <a:ext cx="800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0 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7)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Clare’s soccer team has a record of 7 wins, 3 losses, and 2 ties.  What is the probability her team will either win or tie their next game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/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8)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The area of a square carpet is 36 square meters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each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 me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36:28Z</dcterms:created>
  <dc:creator>ccps</dc:creator>
  <dc:description/>
  <dc:language>en-US</dc:language>
  <cp:lastModifiedBy>ccps</cp:lastModifiedBy>
  <dcterms:modified xsi:type="dcterms:W3CDTF">2010-03-08T21:12:27Z</dcterms:modified>
  <cp:revision>10</cp:revision>
  <dc:subject/>
  <dc:title> Are You Ready for the </dc:title>
</cp:coreProperties>
</file>